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F8B-D5B9-4946-BB8A-DC5833E72A18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formations tirées du graphique publié dans « Tribune », novembre 2013, p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FF3-F597-4541-BB45-29EC095BA3A0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formations tirées du graphique publié dans « Tribune », novembre 2013, p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ode de lecture : dans 47,9% des écoles, moins de 50% des élèves ont réussi l’épreuve de mathéma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1E1-01CC-4E5A-AC6F-C79BE2B152E9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l y a d’autres solutions également : remédiation, encadrement différencié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B847-7571-4B66-A187-A0521A66CD65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3289-9774-4C74-9CC6-F2DAC9B2DFC7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5C9A-45EF-4E58-B27A-8527DA46B35F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1E8-0C97-43C2-BFBB-EC2B2B2A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CF1-FE66-4D37-8DB8-A088AF54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530-4B00-4716-86E5-4E5781E6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498-CD1B-4353-B419-6F826C1C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D942-B687-49C7-93B5-C7630FB6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1BB3-A999-4171-B73A-8E883605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77A6-4FD8-4A2D-9B39-FFBBB36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E56C-3EAD-4FE2-84E3-FCE50DF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68DC-6EA1-49A5-831C-E2BCCBD0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5EF-5E73-4B14-B2C8-DED8FFE7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B2C3-5BE3-467F-8C14-BCEEADC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100-1728-4D06-8C8C-35D250A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AE7-5DA7-4862-93E9-B91FAA22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B9D6-4B90-4595-AC7B-FE706D87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373F-FFA0-4549-8308-E59B58C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AF98-7B41-41E3-A45C-8E3AF6FB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1C72-DC69-474A-B4D8-11CFB8F6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D941-0D37-4945-B2AB-5E90A237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6918-6F7B-4A4F-87A7-407C3300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521A-4728-4565-B89F-5C2BDBC7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7C8B-B232-4D3D-9789-0AD71D4C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961E-7A4F-42AC-9794-4ACCA870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DBD-9E23-41E4-8208-68C1F0D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7728-6731-48BB-A3B1-AB3CAE71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0D0D-B756-458C-970D-93D3C1CA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FE0CC-A5D8-4341-A6AE-252CA900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6D27-D931-44C7-99C0-7A98320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64C2-889A-4AF4-BE57-58A973C6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13A1-B7C0-4B7B-887D-C2BB5979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C93B-F6E9-418B-B467-862A8D3C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C357-ED8D-4A86-8793-A380B62D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A9312-387F-485E-9EF2-0D21B9AB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D9BC-72E6-4924-ACBD-ED94D9DE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C7E-4E61-4168-A92F-8255EEEB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D351-8328-4BF2-8E57-A7AA6E9C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2E03-00C0-4903-88EF-64049DBA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C73C-20E3-4139-A091-464620F8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04FC-C5B5-41BD-9ACE-92C0264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7E5F-804C-4777-9F0A-A3FC469F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D941-945C-45E4-A0E0-5812EA61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6CB4-D251-4657-B8A4-8E986766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B3CE-6893-463C-968C-599393B3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00D5-8CD3-4007-9C81-04B1BD82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B97-E039-4E35-A453-F8CBBB0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020-366F-4367-A616-4498C2C8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E85-B3B1-4E81-8ACF-0D14EE0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79C-F935-4175-AD12-F8BC56E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0EA-BACD-4EB0-96F1-A10C9DDA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E137-8E38-4249-8A02-9B3E82DEE402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E6A-8C75-4FC8-8C22-75FF262AF3D6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A479-3366-45BA-B120-1630350F7B2E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3D68-E2B7-4A5B-8CFF-455CE31CDA47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re 1" descr=""/>
          <p:cNvPicPr/>
          <p:nvPr/>
        </p:nvPicPr>
        <p:blipFill>
          <a:blip r:embed="rId1"/>
          <a:stretch/>
        </p:blipFill>
        <p:spPr>
          <a:xfrm>
            <a:off x="396720" y="1914480"/>
            <a:ext cx="8631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360240" y="4572000"/>
            <a:ext cx="4854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Colloque 14 &amp; 15 novembre 20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Sommaire de l’ateli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ésentation M. Balhan, A.R. Esne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ésentation Mme Hausmann, FESe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ésentation M. Dewitte, I.C.A.D.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Espace réservé du contenu 4"/>
          <p:cNvSpPr/>
          <p:nvPr/>
        </p:nvSpPr>
        <p:spPr>
          <a:xfrm>
            <a:off x="609480" y="2087640"/>
            <a:ext cx="82296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  <a:ea typeface="Arial"/>
              </a:rPr>
              <a:t>Un trop grand nombre d’élèves en échec en mathématiqu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  <a:ea typeface="Arial"/>
              </a:rPr>
              <a:t>A titre d’illustration : r</a:t>
            </a:r>
            <a:r>
              <a:rPr b="0" lang="fr-BE" sz="2800" spc="-1" strike="noStrike">
                <a:solidFill>
                  <a:srgbClr val="ffffff"/>
                </a:solidFill>
                <a:latin typeface="Constantia"/>
                <a:ea typeface="Arial"/>
              </a:rPr>
              <a:t>ésultats épreuves communes certificatives CE1D, juin 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76520" y="4797360"/>
          <a:ext cx="6095880" cy="741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’élè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ux de réus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core m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 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50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oportion d’écoles qui affichent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58920" y="2781360"/>
          <a:ext cx="609588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un taux de réussite &lt; 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un taux de réussite &gt; 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7,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2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3" name="Espace réservé du contenu 4"/>
          <p:cNvSpPr/>
          <p:nvPr/>
        </p:nvSpPr>
        <p:spPr>
          <a:xfrm>
            <a:off x="628560" y="4653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  <a:ea typeface="Arial"/>
              </a:rPr>
              <a:t>Il y a donc un problème … ou plusieu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Sans doute, une partie de la responsabilité de l’échec incombe aux élèv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Mais, vu la proportion d’échecs, ne faut-il pas se mettre en question aussi? Profs et responsables du système éducatif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Une solution actuelle, réorienter les élèves en difficultés vers des sections à 2h/semaine ou moins, est-elle profit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Dans cet atelier, nous nous limiterons à 3 aspects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onstantia"/>
              </a:rPr>
              <a:t>Exposé 1 : </a:t>
            </a:r>
            <a:r>
              <a:rPr b="0" i="1" lang="fr-BE" sz="2400" spc="-1" strike="noStrike">
                <a:solidFill>
                  <a:srgbClr val="ffffff"/>
                </a:solidFill>
                <a:latin typeface="Constantia"/>
              </a:rPr>
              <a:t>« Qu’entend-on par comprendre les mathématiques ?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onstantia"/>
              </a:rPr>
              <a:t>Exposé 2 : </a:t>
            </a:r>
            <a:r>
              <a:rPr b="0" i="1" lang="fr-BE" sz="2400" spc="-1" strike="noStrike">
                <a:solidFill>
                  <a:srgbClr val="ffffff"/>
                </a:solidFill>
                <a:latin typeface="Constantia"/>
              </a:rPr>
              <a:t>« une réorientation vers une autre section ou filière, est-ce profitable à l’élève? 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onstantia"/>
              </a:rPr>
              <a:t>Exposé 3 : </a:t>
            </a:r>
            <a:r>
              <a:rPr b="0" i="1" lang="fr-BE" sz="2400" spc="-1" strike="noStrike">
                <a:solidFill>
                  <a:srgbClr val="ffffff"/>
                </a:solidFill>
                <a:latin typeface="Constantia"/>
              </a:rPr>
              <a:t>« quelles mathématiques pour quels élèves ?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256500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Les exposés dureront à chaque fois 15 min, et seront suivis de 5 minutes de débat avec la sall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L’atelier sera clôturé par un débat sur l’ensemble des trois exposés +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7:02:51Z</dcterms:created>
  <dc:creator>jorre</dc:creator>
  <dc:description/>
  <dc:language>en-US</dc:language>
  <cp:lastModifiedBy>Admin</cp:lastModifiedBy>
  <dcterms:modified xsi:type="dcterms:W3CDTF">2013-11-13T21:14:30Z</dcterms:modified>
  <cp:revision>103</cp:revision>
  <dc:subject/>
  <dc:title>Enseignement  en TQ / P</dc:title>
</cp:coreProperties>
</file>